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E113B-F29E-45F6-B261-198CA931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9AE5C-1932-4D79-AEB9-749BC96E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0CF6AE-3031-44DC-8637-617A24AADF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7B68F-D005-4C7F-B32A-1F95CD105C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CAC0BD-F7DE-41FA-9013-7314599E7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A1A99-B625-457B-8E0E-BE318F564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FFCE4-1F0F-43C6-AB3E-78446810A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05D95-7366-4ACF-B3C2-7963170CA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0BBDA-3C9B-4959-91EC-13B37757D3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C7175E-BC01-468C-8588-7779A8782F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15EFF9-9BA1-48BF-9F30-FF62C271CD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F069D-7FF3-4F7E-8644-0A2DDF5D0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DA36-8814-4E6A-B2B5-08197F866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946E1-5E37-4638-A168-2D9CCF3E0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86C6-453C-412A-A6C4-7509B871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4318F-5D84-408D-8536-1005176E0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CACB8-3B93-4D90-A75B-35E145DBB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B10E8-C2AA-4E85-97A2-D9FA66FB0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06BA1-E915-4A91-AFEC-28F9D91FA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45BD-D8A3-4A50-8FAF-C29D87431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636E-C15B-47FD-968F-BFE52BD7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1E172-55FF-4EB2-A878-6D7ECD9B5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6501A-20DE-477C-92D0-9058A4236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2D91D-0A07-458B-BFA4-30ACF0875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C1490-C4E6-4FD5-8414-CF052B0A9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C5EC6-E3CE-4EB7-8429-00D32146E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04603-C8C2-468E-983F-79BF9F129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250D9-EBA4-40DB-A79E-20BDA81B0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51034-66FD-408D-A2D5-C8094ABD1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0B03A-0FE1-4439-83DA-445D09F6E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D600B-C179-4FAB-9A16-AD5C057323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E7BF-2D5F-4FAE-9CFF-9F5046E0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74CC5-5BBD-4AAF-9D5A-BB70183B3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B7170-0A90-43D3-B942-C4E05CAF3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D6E3A-457C-4A40-B623-C607A1589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E7BB6-DD58-47C2-B595-CCC7D6244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CA34A-C654-4B9D-B85E-AC7D32D7B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CAA5B-7337-4EDA-8553-63B7EB2675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300C2-1CC0-4955-960D-90F30D426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2C4423-87A4-462E-9C90-4F4B02A10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5BA81-705E-41D7-9158-EA26AF0DB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EB20A-D7D5-443A-9A96-2A04310B0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8B86-0A72-4374-9ECD-DB69995E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26468-B821-4161-A149-3384C5DCF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0E16A-873A-4AD9-820C-9DEB28175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9C4F4-FDF7-4C23-875D-327086018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20463-F796-4B72-9096-F6051E17A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9D79D-0DAE-4999-BD14-84BC36BD4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76DDE-09EF-4F71-A8DE-19239D367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5AA9A-DF33-460E-9130-D80C13F31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003F5E-CA31-4A1E-BE84-3310155F3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C746E9-FD58-4458-A926-BAAF484AB8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26D553-6F98-4EE9-82D6-1671BF946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0D24-7829-428A-B737-09B15541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0C360-3727-4E65-9730-45A826BFA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E6206-DE53-4992-AEB0-C0E923EFF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1EA1A-24C7-4FAD-B336-EA5BA6366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40A301-32BB-497C-80D2-DDB415544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8E4D2-D452-4662-92BB-3925FFCF7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ECD68-C4A5-4DF0-9E47-DFFB873E7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B5AC9-5DEC-420A-B19B-B187705CA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E5CBD-6C9D-4F48-8FE8-F9B9CC0E9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40C10-800A-4BFB-9EF8-4523BC70C7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DAC77-EFD4-48E4-AA3E-92CCC7E881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F8F1-31B4-43F7-9FCC-5204599C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941E05-162D-4EA2-B1E1-619381C8A3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D112D-4D36-478D-A68B-DB3521B8FA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544CF-A147-4AB1-AAD4-75E044A98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EA790-3467-43BF-B091-B851B5E84E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D7688-2A8C-4800-BCBC-F793E852E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2A68D-84EC-4BD8-95C0-759BA93A3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0C185-2AA7-48BC-86DC-03B91C0FC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19CAD-A921-4C78-BCBC-749549E4D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5F802-7C14-4EE8-AE92-3050A9477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26960-7A46-41C2-AC37-951BF618F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B1D7-038E-4E79-867E-FF4BC7B24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2EB21-98E0-41E4-842D-9F798E4746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F81F8-A2A5-461C-8FCE-A574D503C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70D82F-AFF3-46A1-8B67-3CD45A718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365E0-8BDA-4CCD-9AA0-10209D32CA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B2B02-FD24-4CA8-8357-DEDA01408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2814A7-2284-4A3C-9F81-059E3B7B7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5E566-1E47-48B6-A968-8F58BB881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842671-761C-4CFB-84C0-02598D8B2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E83B0A-5B27-4BBD-A19F-D0E05B817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5CD52-9677-4B52-95D2-335FCA7D2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8037-17EC-4EDB-A930-234EE4E5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7487E-757C-44B0-9E31-DE75B6BA3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7AEDF-1727-4C5D-9328-223EFD7E8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5D8796-8A05-4B6B-BC9C-241C66D40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83BA3-838B-432F-AE9F-1DE4FB013A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9AC7F5-93EC-401B-9FAB-58AA575C21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969A1F-6543-4DFE-A44C-5D5840E7F9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54738-7086-4529-A5BD-DC7A93B54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A82FF-5304-406E-8291-EB34F490A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84C75-0791-47FC-A410-5F5F90075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25683-7612-40D4-A619-32C432D1A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EEA3-8723-4B66-85BA-CE941C8B6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980B5E-41B0-47A4-A92A-FE3E54F010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9519D-B731-4ABE-A94B-EAF7141ED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B49607-38C1-49D2-85F1-C9B3CE212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AC1A0-6B25-40F4-99B4-E888EACFA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4CACE-7508-420D-AEA0-F4BB2B6FD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6C785F-9E1C-4957-9EB4-0F61BF4489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09232D-5DFC-41DF-A663-169B03B4F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12EAA2-FBF7-4756-8AAD-DE0A6C1C67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B91439-8CDD-474E-B64F-89400525B6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347B7B-7CAA-44B0-A6F1-34200F7005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6805-C609-4A4F-8AB0-47FC5C654B3E}"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5C57-BC7C-417A-B529-1B06E5BC567C}"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CCFB-ACCE-4A23-AD65-70D75B61024C}"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5452-9A73-4AF0-9A2F-6EB66D77DA4C}" type="slidenum">
              <a:rPr b="0" lang="es-PE"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6F82-F3FE-4648-A233-164D448A859A}"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E1A6-9A52-4FE5-92E1-7976A605F13A}"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2A1F-8C36-427C-8168-7891BF894BB5}"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2649-9767-4506-B521-022D9C1F4683}"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FAE0-9D3C-45FF-AD47-88BB2DFF1C88}" type="slidenum">
              <a:rPr b="0" lang="es-P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12600" y="1189080"/>
            <a:ext cx="8667720" cy="132228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43329"/>
                </a:solidFill>
                <a:latin typeface="Franklin Gothic Book"/>
              </a:rPr>
              <a:t>Por:</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43329"/>
                </a:solidFill>
                <a:latin typeface="Franklin Gothic Book"/>
              </a:rPr>
              <a:t>Bruno Sano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Se desarrolló en los departamentos de Apurímac, Huancavelica y Ayacucho.</a:t>
            </a:r>
            <a:endParaRPr b="0" lang="en-US" sz="2800" spc="-1" strike="noStrike">
              <a:solidFill>
                <a:srgbClr val="4e3b30"/>
              </a:solidFill>
              <a:latin typeface="Franklin Gothic Book"/>
            </a:endParaRPr>
          </a:p>
        </p:txBody>
      </p:sp>
      <p:pic>
        <p:nvPicPr>
          <p:cNvPr id="403" name="4 Imagen" descr="tgf.jpg"/>
          <p:cNvPicPr/>
          <p:nvPr/>
        </p:nvPicPr>
        <p:blipFill>
          <a:blip r:embed="rId2"/>
          <a:stretch/>
        </p:blipFill>
        <p:spPr>
          <a:xfrm>
            <a:off x="2500200" y="2786040"/>
            <a:ext cx="3000600" cy="36860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Para algunos arqueólogos, la sociedad chanca implicó un retroceso, desde el punto de vista urbano, por comparación con la cultura Huari. Su modelo de asentamiento más generalizado habría sido el de las pequeñas aldeas de aproximadamente 100 casas. Otros estudiosos consideran, en cambio, que los Chancas llegaron a tener algunas grandes poblaciones.</a:t>
            </a:r>
            <a:endParaRPr b="0" lang="en-US" sz="2800" spc="-1" strike="noStrike">
              <a:solidFill>
                <a:srgbClr val="4e3b30"/>
              </a:solidFill>
              <a:latin typeface="Franklin Gothic Book"/>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1 Título" descr=""/>
          <p:cNvPicPr/>
          <p:nvPr/>
        </p:nvPicPr>
        <p:blipFill>
          <a:blip r:embed="rId1"/>
          <a:stretch/>
        </p:blipFill>
        <p:spPr>
          <a:xfrm>
            <a:off x="103320" y="450720"/>
            <a:ext cx="8894520" cy="1152720"/>
          </a:xfrm>
          <a:prstGeom prst="rect">
            <a:avLst/>
          </a:prstGeom>
          <a:ln w="0">
            <a:noFill/>
          </a:ln>
        </p:spPr>
      </p:pic>
      <p:sp>
        <p:nvSpPr>
          <p:cNvPr id="40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De acuerdo a varios mitos sus fundadores fueron Uscovilca y Ancovilca.</a:t>
            </a:r>
            <a:endParaRPr b="0" lang="en-US" sz="2800" spc="-1" strike="noStrike">
              <a:solidFill>
                <a:srgbClr val="4e3b30"/>
              </a:solidFill>
              <a:latin typeface="Franklin Gothic Book"/>
            </a:endParaRPr>
          </a:p>
        </p:txBody>
      </p:sp>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En todo caso, los Chankas de Andahuaylas eran parientes cercanos de las demás tribus que habitaban la actual provincia de Ayacucho, y como nación se fortalecieron tras la decadencia de la expansión Huari. Según Sarmiento de Gamboa, el territorio Chanca estaba dividido en tres parcialidades, conocidas como hanan chanca, urin chanca y villca o Rukanas.</a:t>
            </a:r>
            <a:endParaRPr b="0" lang="en-US" sz="2800" spc="-1" strike="noStrike">
              <a:solidFill>
                <a:srgbClr val="4e3b30"/>
              </a:solidFill>
              <a:latin typeface="Franklin Gothic Book"/>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1 Título"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La economía de los Uran Chancas se basaba fundamentalmente en la actividad agropecuaria. Cultivaron diversas plantas andinas, correspondientes a diversos pisos ecológicos, a lo que sumaban la crianza y el pastoreo de llamas, vicuñas, alpacas, guanacos, en rebaños de apreciable tamaño.</a:t>
            </a:r>
            <a:endParaRPr b="0" lang="en-US" sz="2800" spc="-1" strike="noStrike">
              <a:solidFill>
                <a:srgbClr val="4e3b30"/>
              </a:solidFill>
              <a:latin typeface="Franklin Gothic Book"/>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1 Título"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4e3b30"/>
                </a:solidFill>
                <a:latin typeface="Franklin Gothic Book"/>
              </a:rPr>
              <a:t>Es generalmente llana, de superficie áspera y a veces con un engobe rojo muy diluido. La decoración en relieve, con aplicación de botones o figuritas de arcilla, complementada con incisiones o estampado circular. Las formas son de platos muy abiertos y de cántaros con cuello angosto, que algunas veces muestran caras hechas muy rústicamente</a:t>
            </a:r>
            <a:r>
              <a:rPr b="0" lang="es-PE"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9:58:24Z</dcterms:created>
  <dc:creator>CSJ</dc:creator>
  <dc:description/>
  <dc:language>en-US</dc:language>
  <cp:lastModifiedBy>Computo</cp:lastModifiedBy>
  <dcterms:modified xsi:type="dcterms:W3CDTF">2009-11-16T14:24:56Z</dcterms:modified>
  <cp:revision>5</cp:revision>
  <dc:subject/>
  <dc:title>Cultura Chanca</dc:title>
</cp:coreProperties>
</file>